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D1E-7050-4BFE-8E83-10813B6E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E75-62C4-4763-A9E8-7990ABE2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2D8-674D-4941-8FB7-44812DDA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326-EEBB-473E-9325-0F006B8F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873C-488C-4444-A279-18B95101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241A-FEA9-46B0-B883-F95DD5F2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F8F4-40FB-4D22-A716-10B38027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FEAD-B36A-4353-8498-D4B23E4A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8987-A7BE-4CA8-8520-C02D84BE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CDB4-0EFB-424D-99BE-A89B5D50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F9EC-EA0B-4D87-BDBF-F0CF6EC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0A2-8798-4893-B5CD-C72E9E7C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EFF5-75C6-4F20-8D3D-2619CE4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FC0-2314-47E2-921C-B34444CB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973B-519D-4619-8DEE-670B6D43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A07-CF0A-4C0A-A7A9-BCAB3333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C2C1-5BEE-44E6-ABA8-2D9BAFA7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C30-400C-4804-909A-5CB4C7D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56B-7F1E-45DD-A4BC-FF1560E0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F99-9C44-408F-8AA2-FE306CA2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C36-502C-4C90-A150-01BB58D0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C2F-C7C9-4DA5-8DEB-C874618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8EE-D64C-4519-BF89-5E6F7F6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72D-2676-4F33-B10D-EC89C9F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93B6-47E3-4DBE-B151-7632E83BB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BA78-E9F8-4DDD-A62A-35F1CC8D7A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Structuralism and Post Structuralis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Level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588000" y="429264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constr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. A deconstruction of a magazine advertisement would include a discussion on the types of people who are missing from the im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ences and gaps help reveal what the text is privileg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st over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 over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cience over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 structuralists argue tha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an audience, a text has no mea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suggest there is meaning in a text before it is seen by an audience is ridicul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ext has the meaning that the audience chooses to give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places the audience in a very powerful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no longer passive receivers of meaning that has been determined by a produ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cap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tructur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earch for deep structures that are universal to all cul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ce we have discovered the underlying characteristics of a text, we can open it up to discover its mea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rmines HOW texts produce mea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Post structur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ning in a text is uncertain and unreli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xts should be analysed through deconstruction – look at what is missing/been omit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an audience a text has no mea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episode from Sex and the City entitled ‘Where There’s Smoke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at the text from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ali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ew, answer the questions on your work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miotics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ussure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difference between the signifier and signified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804000" y="1197000"/>
            <a:ext cx="1693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tructur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nguage relies on a shared understanding of ‘rules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guists study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ructur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media texts, structuralists would claim to work out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ep structur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being employ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g. In a film genre structuralists would work out deep structures that give meaning to th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ither the film maker or audience would necessarily be aware of these stru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arr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ucturalists have investigated narrative using versions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binary opposit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proposed by Straus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suggest all story telling has deep stru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/Evil  Culture/Nature  Man/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structuralist analysis of a media text will look at how tensions between these oppositions are introduced and re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tructuralist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tanic (19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arrative of Titanic works partly by differences such as upper deck/lower deck, upper class/lower class, American/Europ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understand these oppositions through signifiers of music, dress, colour, type of character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arrative Stru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ladimir Pro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zvetan Todor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dea is that the surface structure of drama has a deeper underlying resonance which helps give the audience reinforcement of our culture’s rules and expec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957240" cy="1368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9604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dia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ucturalism has informed the approach to media analysis through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ar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 have stock characters in soap operas (the gossip, the ‘bad’ boy, the loveable rogue etc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Gen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s can be categorised according to characteristics they have in comm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596360" y="4365720"/>
            <a:ext cx="1366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ost Structur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t Structuralist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 NOT accept the basic idea of deep stru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nder what the point is in searching for mea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int out we cannot be sure meaning exists in the first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t emphasis on the interpretation of texts rather than the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construc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nalytical technique used by post structuralists is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deconstr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ntention is NOT to discover what the real meaning of a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onstruction involves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consideration of what’s mi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egr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7:49:59Z</dcterms:created>
  <dc:creator>niall</dc:creator>
  <dc:description/>
  <dc:language>en-US</dc:language>
  <cp:lastModifiedBy>Grainne</cp:lastModifiedBy>
  <dcterms:modified xsi:type="dcterms:W3CDTF">2010-09-16T11:10:18Z</dcterms:modified>
  <cp:revision>7</cp:revision>
  <dc:subject/>
  <dc:title>Structuralism and Post Structuralism</dc:title>
</cp:coreProperties>
</file>